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3C4-49A3-4E35-95EE-97B6DE34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EDC-7DC1-48C0-817B-CE6FD44F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691-6E0B-4FFF-ACE3-9D991EF6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F4B1-D323-4C94-9240-C74977ED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FEB7-1259-4545-8DB7-CC639632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F4B-BEE9-4514-84AF-DD0B13F0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BE83-2C91-4F38-86FC-3473427F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80CC-A98C-4E75-BD07-8ECF248F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0A9D-6BC0-4BC6-A4BF-10DDAF04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8B55-0BF2-4AA1-9B1D-C9092CC7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288F-B3BB-486F-B4EF-0EDA38DE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231D-3F0F-4219-8E82-14DB48D8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2C10-8FD0-487B-BFA8-17F52546578D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2270160" y="2565360"/>
            <a:ext cx="604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琥珀"/>
                <a:ea typeface="华文琥珀"/>
              </a:rPr>
              <a:t>语文园地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2948400" y="1052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771640" y="548784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陆桥实验小学    徐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"/>
          <p:cNvSpPr/>
          <p:nvPr/>
        </p:nvSpPr>
        <p:spPr>
          <a:xfrm>
            <a:off x="3365640" y="140328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帆船风儿吹着走，远洋轮船走五洲。挖泥船疏通航道，潜水艇儿海底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捕鱼船儿把网拉，宇宙飞船上月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"/>
          <p:cNvSpPr/>
          <p:nvPr/>
        </p:nvSpPr>
        <p:spPr>
          <a:xfrm>
            <a:off x="3365640" y="981000"/>
            <a:ext cx="430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大轮船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（杜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轮船大，像座楼，房间走廊样样有。乘上长江大轮船，水浪哗哗去旅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到南京，到汉口，床走人走水也走。回到家里住大楼，夜里梦见大楼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5009400" y="860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读一读，注意加点的字，看谁读得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3"/>
          <p:cNvSpPr/>
          <p:nvPr/>
        </p:nvSpPr>
        <p:spPr>
          <a:xfrm>
            <a:off x="2340000" y="1700280"/>
            <a:ext cx="1368360" cy="1297080"/>
          </a:xfrm>
          <a:prstGeom prst="ellipse">
            <a:avLst/>
          </a:prstGeom>
          <a:solidFill>
            <a:srgbClr val="68b898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484360" y="17859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627280" y="227664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4067280" y="1557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sh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è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nɡ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桃花盛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盛会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茂盛。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4032360" y="2637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ch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é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nɡ 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盛饭、盛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5009400" y="860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读一读，注意加点的字，看谁读得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3"/>
          <p:cNvSpPr/>
          <p:nvPr/>
        </p:nvSpPr>
        <p:spPr>
          <a:xfrm>
            <a:off x="2050920" y="1700280"/>
            <a:ext cx="1368720" cy="1297080"/>
          </a:xfrm>
          <a:prstGeom prst="ellipse">
            <a:avLst/>
          </a:prstGeom>
          <a:solidFill>
            <a:srgbClr val="68b898"/>
          </a:solidFill>
          <a:ln w="12600">
            <a:solidFill>
              <a:srgbClr val="6eb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2195640" y="178596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340000" y="2276640"/>
            <a:ext cx="431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8"/>
          <p:cNvSpPr/>
          <p:nvPr/>
        </p:nvSpPr>
        <p:spPr>
          <a:xfrm>
            <a:off x="3419640" y="1700280"/>
            <a:ext cx="1368360" cy="1297080"/>
          </a:xfrm>
          <a:prstGeom prst="ellipse">
            <a:avLst/>
          </a:prstGeom>
          <a:solidFill>
            <a:srgbClr val="eb6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3564000" y="178596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床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铺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3780000" y="2279520"/>
            <a:ext cx="936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11"/>
          <p:cNvSpPr/>
          <p:nvPr/>
        </p:nvSpPr>
        <p:spPr>
          <a:xfrm>
            <a:off x="4788000" y="1628640"/>
            <a:ext cx="1368360" cy="129564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4932360" y="17002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种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5148360" y="2205000"/>
            <a:ext cx="431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4"/>
          <p:cNvSpPr/>
          <p:nvPr/>
        </p:nvSpPr>
        <p:spPr>
          <a:xfrm>
            <a:off x="6156360" y="1628640"/>
            <a:ext cx="1368360" cy="1295640"/>
          </a:xfrm>
          <a:prstGeom prst="ellipse">
            <a:avLst/>
          </a:prstGeom>
          <a:solidFill>
            <a:srgbClr val="a9899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6300720" y="17146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好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好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6443640" y="220500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7"/>
          <p:cNvSpPr/>
          <p:nvPr/>
        </p:nvSpPr>
        <p:spPr>
          <a:xfrm>
            <a:off x="1979640" y="4149720"/>
            <a:ext cx="1368360" cy="1295280"/>
          </a:xfrm>
          <a:prstGeom prst="ellipse">
            <a:avLst/>
          </a:prstGeom>
          <a:solidFill>
            <a:srgbClr val="badee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2268360" y="472428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2124000" y="42210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重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20"/>
          <p:cNvSpPr/>
          <p:nvPr/>
        </p:nvSpPr>
        <p:spPr>
          <a:xfrm>
            <a:off x="3348000" y="4151160"/>
            <a:ext cx="1368360" cy="1297080"/>
          </a:xfrm>
          <a:prstGeom prst="ellipse">
            <a:avLst/>
          </a:prstGeom>
          <a:solidFill>
            <a:srgbClr val="8a87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1"/>
          <p:cNvSpPr/>
          <p:nvPr/>
        </p:nvSpPr>
        <p:spPr>
          <a:xfrm>
            <a:off x="3635280" y="472752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2"/>
          <p:cNvSpPr/>
          <p:nvPr/>
        </p:nvSpPr>
        <p:spPr>
          <a:xfrm>
            <a:off x="3492360" y="42228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教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教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23"/>
          <p:cNvSpPr/>
          <p:nvPr/>
        </p:nvSpPr>
        <p:spPr>
          <a:xfrm>
            <a:off x="4716360" y="4149720"/>
            <a:ext cx="1368360" cy="1295280"/>
          </a:xfrm>
          <a:prstGeom prst="ellipse">
            <a:avLst/>
          </a:prstGeom>
          <a:solidFill>
            <a:srgbClr val="e1d36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5003640" y="4724280"/>
            <a:ext cx="1081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5"/>
          <p:cNvSpPr/>
          <p:nvPr/>
        </p:nvSpPr>
        <p:spPr>
          <a:xfrm>
            <a:off x="4859280" y="4221000"/>
            <a:ext cx="14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口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号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26"/>
          <p:cNvSpPr/>
          <p:nvPr/>
        </p:nvSpPr>
        <p:spPr>
          <a:xfrm>
            <a:off x="6084720" y="4149720"/>
            <a:ext cx="1366920" cy="1295280"/>
          </a:xfrm>
          <a:prstGeom prst="ellipse">
            <a:avLst/>
          </a:prstGeom>
          <a:solidFill>
            <a:srgbClr val="9986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7"/>
          <p:cNvSpPr/>
          <p:nvPr/>
        </p:nvSpPr>
        <p:spPr>
          <a:xfrm>
            <a:off x="6372360" y="4724280"/>
            <a:ext cx="431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8"/>
          <p:cNvSpPr/>
          <p:nvPr/>
        </p:nvSpPr>
        <p:spPr>
          <a:xfrm>
            <a:off x="6227640" y="42210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干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干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29"/>
          <p:cNvSpPr/>
          <p:nvPr/>
        </p:nvSpPr>
        <p:spPr>
          <a:xfrm>
            <a:off x="7451640" y="4149720"/>
            <a:ext cx="1368360" cy="1295280"/>
          </a:xfrm>
          <a:prstGeom prst="ellipse">
            <a:avLst/>
          </a:prstGeom>
          <a:solidFill>
            <a:srgbClr val="a1e3b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0"/>
          <p:cNvSpPr/>
          <p:nvPr/>
        </p:nvSpPr>
        <p:spPr>
          <a:xfrm>
            <a:off x="7740720" y="4724280"/>
            <a:ext cx="1079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1"/>
          <p:cNvSpPr/>
          <p:nvPr/>
        </p:nvSpPr>
        <p:spPr>
          <a:xfrm>
            <a:off x="7596360" y="422100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难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灾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32"/>
          <p:cNvSpPr/>
          <p:nvPr/>
        </p:nvSpPr>
        <p:spPr>
          <a:xfrm>
            <a:off x="7524720" y="1630440"/>
            <a:ext cx="1368360" cy="1297080"/>
          </a:xfrm>
          <a:prstGeom prst="ellipse">
            <a:avLst/>
          </a:prstGeom>
          <a:solidFill>
            <a:srgbClr val="f5b9d4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3"/>
          <p:cNvSpPr/>
          <p:nvPr/>
        </p:nvSpPr>
        <p:spPr>
          <a:xfrm>
            <a:off x="7812000" y="2206800"/>
            <a:ext cx="100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7667640" y="1703520"/>
            <a:ext cx="14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水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5"/>
          <p:cNvSpPr/>
          <p:nvPr/>
        </p:nvSpPr>
        <p:spPr>
          <a:xfrm>
            <a:off x="2573280" y="2997360"/>
            <a:ext cx="545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根据词语的意思来猜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加点的多音字的读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"/>
          <p:cNvSpPr/>
          <p:nvPr/>
        </p:nvSpPr>
        <p:spPr>
          <a:xfrm>
            <a:off x="5009400" y="860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读一读，注意加点的字，看谁读得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"/>
          <p:cNvSpPr/>
          <p:nvPr/>
        </p:nvSpPr>
        <p:spPr>
          <a:xfrm>
            <a:off x="3059280" y="1989000"/>
            <a:ext cx="1368360" cy="1295640"/>
          </a:xfrm>
          <a:prstGeom prst="ellipse">
            <a:avLst/>
          </a:prstGeom>
          <a:solidFill>
            <a:srgbClr val="68b898"/>
          </a:solidFill>
          <a:ln w="12600">
            <a:solidFill>
              <a:srgbClr val="6eb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2916360" y="1989000"/>
            <a:ext cx="208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土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顽皮地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3708360" y="249228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23"/>
          <p:cNvSpPr/>
          <p:nvPr/>
        </p:nvSpPr>
        <p:spPr>
          <a:xfrm>
            <a:off x="5724360" y="1919160"/>
            <a:ext cx="1368720" cy="1295640"/>
          </a:xfrm>
          <a:prstGeom prst="ellipse">
            <a:avLst/>
          </a:prstGeom>
          <a:solidFill>
            <a:srgbClr val="e1d36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4"/>
          <p:cNvSpPr/>
          <p:nvPr/>
        </p:nvSpPr>
        <p:spPr>
          <a:xfrm>
            <a:off x="6012000" y="2495520"/>
            <a:ext cx="576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5"/>
          <p:cNvSpPr/>
          <p:nvPr/>
        </p:nvSpPr>
        <p:spPr>
          <a:xfrm>
            <a:off x="5796000" y="19908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数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数不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29"/>
          <p:cNvSpPr/>
          <p:nvPr/>
        </p:nvSpPr>
        <p:spPr>
          <a:xfrm>
            <a:off x="5796000" y="4222800"/>
            <a:ext cx="1368360" cy="1297080"/>
          </a:xfrm>
          <a:prstGeom prst="ellipse">
            <a:avLst/>
          </a:prstGeom>
          <a:solidFill>
            <a:srgbClr val="a1e3b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0"/>
          <p:cNvSpPr/>
          <p:nvPr/>
        </p:nvSpPr>
        <p:spPr>
          <a:xfrm>
            <a:off x="6516720" y="4799160"/>
            <a:ext cx="719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1"/>
          <p:cNvSpPr/>
          <p:nvPr/>
        </p:nvSpPr>
        <p:spPr>
          <a:xfrm>
            <a:off x="5940360" y="42958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跟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睡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32"/>
          <p:cNvSpPr/>
          <p:nvPr/>
        </p:nvSpPr>
        <p:spPr>
          <a:xfrm>
            <a:off x="3059280" y="4221000"/>
            <a:ext cx="1368360" cy="1295640"/>
          </a:xfrm>
          <a:prstGeom prst="ellipse">
            <a:avLst/>
          </a:prstGeom>
          <a:solidFill>
            <a:srgbClr val="f5b9d4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3"/>
          <p:cNvSpPr/>
          <p:nvPr/>
        </p:nvSpPr>
        <p:spPr>
          <a:xfrm>
            <a:off x="3348000" y="4797360"/>
            <a:ext cx="611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4"/>
          <p:cNvSpPr/>
          <p:nvPr/>
        </p:nvSpPr>
        <p:spPr>
          <a:xfrm>
            <a:off x="3203640" y="429264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长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长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1"/>
          <p:cNvSpPr/>
          <p:nvPr/>
        </p:nvSpPr>
        <p:spPr>
          <a:xfrm>
            <a:off x="2340000" y="1892160"/>
            <a:ext cx="6624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标点符号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句中有停顿，加只小蝌蚪（，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句话说完，画个小圆圈（。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疑惑或发问，耳朵坠耳环（？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命令或感叹，滴水下屋檐（！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3254760" y="8604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给下面的句子加上标点，再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3375000" y="2124000"/>
            <a:ext cx="410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阵秋风吹过 树叶像蝴蝶一样飘落下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去公园玩  公园里花真多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棵树的叶子真奇怪  是什么树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菱形 6"/>
          <p:cNvSpPr/>
          <p:nvPr/>
        </p:nvSpPr>
        <p:spPr>
          <a:xfrm>
            <a:off x="2050920" y="2276640"/>
            <a:ext cx="320760" cy="28872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菱形 17"/>
          <p:cNvSpPr/>
          <p:nvPr/>
        </p:nvSpPr>
        <p:spPr>
          <a:xfrm>
            <a:off x="2050920" y="310356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菱形 18"/>
          <p:cNvSpPr/>
          <p:nvPr/>
        </p:nvSpPr>
        <p:spPr>
          <a:xfrm>
            <a:off x="2050920" y="393372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3254760" y="8604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给下面的句子加上标点，再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5"/>
          <p:cNvSpPr/>
          <p:nvPr/>
        </p:nvSpPr>
        <p:spPr>
          <a:xfrm>
            <a:off x="3374280" y="2124000"/>
            <a:ext cx="410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阵秋风吹过 树叶像蝴蝶一样飘落下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去公园玩  公园里花真多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棵树的叶子真奇怪  是什么树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菱形 6"/>
          <p:cNvSpPr/>
          <p:nvPr/>
        </p:nvSpPr>
        <p:spPr>
          <a:xfrm>
            <a:off x="2050920" y="2276640"/>
            <a:ext cx="320760" cy="28872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菱形 17"/>
          <p:cNvSpPr/>
          <p:nvPr/>
        </p:nvSpPr>
        <p:spPr>
          <a:xfrm>
            <a:off x="2050920" y="310356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菱形 18"/>
          <p:cNvSpPr/>
          <p:nvPr/>
        </p:nvSpPr>
        <p:spPr>
          <a:xfrm>
            <a:off x="2050920" y="393372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427640" y="2133720"/>
            <a:ext cx="471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， 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，              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，          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1"/>
          <p:cNvSpPr/>
          <p:nvPr/>
        </p:nvSpPr>
        <p:spPr>
          <a:xfrm>
            <a:off x="4500720" y="105264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8000"/>
                </a:solidFill>
                <a:latin typeface="楷体"/>
                <a:ea typeface="楷体"/>
              </a:rPr>
              <a:t>小青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河水清清天气晴，小小青蛙大眼睛。保护禾苗吃害虫，做了不少好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请你爱护小青蛙，好让禾苗不生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2330280" y="860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有趣的儿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3590280" y="530064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找找看，这首儿歌里哪些字很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4518000" y="1042920"/>
            <a:ext cx="430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8000"/>
                </a:solidFill>
                <a:latin typeface="楷体"/>
                <a:ea typeface="楷体"/>
              </a:rPr>
              <a:t>小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青</a:t>
            </a:r>
            <a:r>
              <a:rPr b="1" lang="zh-CN" sz="3600" spc="-1" strike="noStrike">
                <a:solidFill>
                  <a:srgbClr val="008000"/>
                </a:solidFill>
                <a:latin typeface="楷体"/>
                <a:ea typeface="楷体"/>
              </a:rPr>
              <a:t>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河水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清天气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小小青蛙大眼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睛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保护禾苗吃害虫，做了不少好事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请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爱护小青蛙，好让禾苗不生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1"/>
          <p:cNvSpPr/>
          <p:nvPr/>
        </p:nvSpPr>
        <p:spPr>
          <a:xfrm>
            <a:off x="2268360" y="1474920"/>
            <a:ext cx="63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巴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把 爸 吧    包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饱 抱 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方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放 防 房    青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清 晴 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妈 蚂 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4166640" y="4221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你还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4550760" y="5148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声旁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"/>
          <p:cNvSpPr/>
          <p:nvPr/>
        </p:nvSpPr>
        <p:spPr>
          <a:xfrm>
            <a:off x="1908000" y="213372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       jiù          mó  tuō         f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  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2050920" y="831960"/>
            <a:ext cx="1657440" cy="13176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698840" cy="1312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5" descr=""/>
          <p:cNvPicPr/>
          <p:nvPr/>
        </p:nvPicPr>
        <p:blipFill>
          <a:blip r:embed="rId3"/>
          <a:stretch/>
        </p:blipFill>
        <p:spPr>
          <a:xfrm>
            <a:off x="5364000" y="836640"/>
            <a:ext cx="1586160" cy="13129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6" descr=""/>
          <p:cNvPicPr/>
          <p:nvPr/>
        </p:nvPicPr>
        <p:blipFill>
          <a:blip r:embed="rId4"/>
          <a:stretch/>
        </p:blipFill>
        <p:spPr>
          <a:xfrm>
            <a:off x="6950160" y="836640"/>
            <a:ext cx="1793880" cy="13129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7" descr=""/>
          <p:cNvPicPr/>
          <p:nvPr/>
        </p:nvPicPr>
        <p:blipFill>
          <a:blip r:embed="rId5"/>
          <a:stretch/>
        </p:blipFill>
        <p:spPr>
          <a:xfrm>
            <a:off x="2050920" y="3933720"/>
            <a:ext cx="1513080" cy="10796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8" descr=""/>
          <p:cNvPicPr/>
          <p:nvPr/>
        </p:nvPicPr>
        <p:blipFill>
          <a:blip r:embed="rId6"/>
          <a:stretch/>
        </p:blipFill>
        <p:spPr>
          <a:xfrm>
            <a:off x="3564000" y="3933720"/>
            <a:ext cx="143964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9" descr=""/>
          <p:cNvPicPr/>
          <p:nvPr/>
        </p:nvPicPr>
        <p:blipFill>
          <a:blip r:embed="rId7"/>
          <a:stretch/>
        </p:blipFill>
        <p:spPr>
          <a:xfrm>
            <a:off x="4932360" y="3933720"/>
            <a:ext cx="1511280" cy="1079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0" descr=""/>
          <p:cNvPicPr/>
          <p:nvPr/>
        </p:nvPicPr>
        <p:blipFill>
          <a:blip r:embed="rId8"/>
          <a:stretch/>
        </p:blipFill>
        <p:spPr>
          <a:xfrm>
            <a:off x="6443640" y="3897360"/>
            <a:ext cx="2300400" cy="1116000"/>
          </a:xfrm>
          <a:prstGeom prst="rect">
            <a:avLst/>
          </a:prstGeom>
          <a:ln w="0">
            <a:noFill/>
          </a:ln>
        </p:spPr>
      </p:pic>
      <p:sp>
        <p:nvSpPr>
          <p:cNvPr id="54" name="矩形 5"/>
          <p:cNvSpPr/>
          <p:nvPr/>
        </p:nvSpPr>
        <p:spPr>
          <a:xfrm>
            <a:off x="1908000" y="495468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yú       huò     yóu lún   kē    k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 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419640" y="3338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救护车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用来（     ）的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"/>
          <p:cNvSpPr/>
          <p:nvPr/>
        </p:nvSpPr>
        <p:spPr>
          <a:xfrm>
            <a:off x="3798720" y="765000"/>
            <a:ext cx="322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趣味识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饭能吃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水把茶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足快快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手轻轻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衣穿长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火放鞭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"/>
          <p:cNvSpPr/>
          <p:nvPr/>
        </p:nvSpPr>
        <p:spPr>
          <a:xfrm>
            <a:off x="4214160" y="4724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你又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3132000" y="5373720"/>
            <a:ext cx="574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形旁表义  声旁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"/>
          <p:cNvSpPr/>
          <p:nvPr/>
        </p:nvSpPr>
        <p:spPr>
          <a:xfrm>
            <a:off x="1908000" y="1484280"/>
            <a:ext cx="6912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巴  把  爸  方  放  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蚂  吗  饱  炮  清  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（  ）  好（  ）  尾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  ）子 （  ）学  正（  ）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  ）蚁   是（  ） 开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吃（  ）  （  ）天  （  ）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2246040" y="86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"/>
          <p:cNvSpPr/>
          <p:nvPr/>
        </p:nvSpPr>
        <p:spPr>
          <a:xfrm>
            <a:off x="1908000" y="1484280"/>
            <a:ext cx="6912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巴  把  爸  方  放  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蚂  吗  饱  炮  清  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好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吧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尾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房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子 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放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学  正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方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蚂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蚁   是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开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炮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吃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饱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天  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4"/>
          <p:cNvSpPr/>
          <p:nvPr/>
        </p:nvSpPr>
        <p:spPr>
          <a:xfrm>
            <a:off x="2246040" y="86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1"/>
          <p:cNvSpPr/>
          <p:nvPr/>
        </p:nvSpPr>
        <p:spPr>
          <a:xfrm>
            <a:off x="2340000" y="1884240"/>
            <a:ext cx="69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巴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嘴吧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开方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好妈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灯炮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肉饱子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炮茶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包经风霜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晴明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山青水秀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蜻蛙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雨过天清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4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火眼金睛大比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2340000" y="1884240"/>
            <a:ext cx="69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巴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嘴吧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开方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放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好妈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灯炮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泡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肉饱子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炮茶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泡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包经风霜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饱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晴明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山青水秀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蜻蛙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青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雨过天清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4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火眼金睛大比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3"/>
          <p:cNvSpPr/>
          <p:nvPr/>
        </p:nvSpPr>
        <p:spPr>
          <a:xfrm>
            <a:off x="2060640" y="2170080"/>
            <a:ext cx="683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志者事竟成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汉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志当存高远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诫外生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志不在年高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传家宝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同心圆 4"/>
          <p:cNvSpPr/>
          <p:nvPr/>
        </p:nvSpPr>
        <p:spPr>
          <a:xfrm>
            <a:off x="2195640" y="227664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0" y="180182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2"/>
                </a:cubicBezTo>
                <a:cubicBezTo>
                  <a:pt x="360362" y="279694"/>
                  <a:pt x="279692" y="360364"/>
                  <a:pt x="180181" y="360364"/>
                </a:cubicBezTo>
                <a:cubicBezTo>
                  <a:pt x="80670" y="360364"/>
                  <a:pt x="0" y="279694"/>
                  <a:pt x="0" y="180182"/>
                </a:cubicBezTo>
                <a:close/>
                <a:moveTo>
                  <a:pt x="90091" y="180182"/>
                </a:moveTo>
                <a:cubicBezTo>
                  <a:pt x="90091" y="229938"/>
                  <a:pt x="130426" y="270273"/>
                  <a:pt x="180182" y="270273"/>
                </a:cubicBezTo>
                <a:cubicBezTo>
                  <a:pt x="229938" y="270273"/>
                  <a:pt x="270273" y="229938"/>
                  <a:pt x="270273" y="180182"/>
                </a:cubicBezTo>
                <a:cubicBezTo>
                  <a:pt x="270273" y="130426"/>
                  <a:pt x="229938" y="90091"/>
                  <a:pt x="180182" y="90091"/>
                </a:cubicBezTo>
                <a:cubicBezTo>
                  <a:pt x="130426" y="90091"/>
                  <a:pt x="90091" y="130426"/>
                  <a:pt x="90091" y="180182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同心圆 5"/>
          <p:cNvSpPr/>
          <p:nvPr/>
        </p:nvSpPr>
        <p:spPr>
          <a:xfrm>
            <a:off x="2195640" y="328464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同心圆 6"/>
          <p:cNvSpPr/>
          <p:nvPr/>
        </p:nvSpPr>
        <p:spPr>
          <a:xfrm>
            <a:off x="2195640" y="4221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来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2060640" y="2170080"/>
            <a:ext cx="683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者事竟成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汉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当存高远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诫外生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在年高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传家宝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同心圆 4"/>
          <p:cNvSpPr/>
          <p:nvPr/>
        </p:nvSpPr>
        <p:spPr>
          <a:xfrm>
            <a:off x="2195640" y="227664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0" y="180182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2"/>
                </a:cubicBezTo>
                <a:cubicBezTo>
                  <a:pt x="360362" y="279694"/>
                  <a:pt x="279692" y="360364"/>
                  <a:pt x="180181" y="360364"/>
                </a:cubicBezTo>
                <a:cubicBezTo>
                  <a:pt x="80670" y="360364"/>
                  <a:pt x="0" y="279694"/>
                  <a:pt x="0" y="180182"/>
                </a:cubicBezTo>
                <a:close/>
                <a:moveTo>
                  <a:pt x="90091" y="180182"/>
                </a:moveTo>
                <a:cubicBezTo>
                  <a:pt x="90091" y="229938"/>
                  <a:pt x="130426" y="270273"/>
                  <a:pt x="180182" y="270273"/>
                </a:cubicBezTo>
                <a:cubicBezTo>
                  <a:pt x="229938" y="270273"/>
                  <a:pt x="270273" y="229938"/>
                  <a:pt x="270273" y="180182"/>
                </a:cubicBezTo>
                <a:cubicBezTo>
                  <a:pt x="270273" y="130426"/>
                  <a:pt x="229938" y="90091"/>
                  <a:pt x="180182" y="90091"/>
                </a:cubicBezTo>
                <a:cubicBezTo>
                  <a:pt x="130426" y="90091"/>
                  <a:pt x="90091" y="130426"/>
                  <a:pt x="90091" y="180182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同心圆 5"/>
          <p:cNvSpPr/>
          <p:nvPr/>
        </p:nvSpPr>
        <p:spPr>
          <a:xfrm>
            <a:off x="2195640" y="328464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同心圆 6"/>
          <p:cNvSpPr/>
          <p:nvPr/>
        </p:nvSpPr>
        <p:spPr>
          <a:xfrm>
            <a:off x="2195640" y="4221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"/>
          <p:cNvSpPr/>
          <p:nvPr/>
        </p:nvSpPr>
        <p:spPr>
          <a:xfrm>
            <a:off x="2060640" y="2170080"/>
            <a:ext cx="683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者事竟成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汉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当存高远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诫外生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在年高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传家宝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同心圆 4"/>
          <p:cNvSpPr/>
          <p:nvPr/>
        </p:nvSpPr>
        <p:spPr>
          <a:xfrm>
            <a:off x="2195640" y="227664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0" y="180182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2"/>
                </a:cubicBezTo>
                <a:cubicBezTo>
                  <a:pt x="360362" y="279694"/>
                  <a:pt x="279692" y="360364"/>
                  <a:pt x="180181" y="360364"/>
                </a:cubicBezTo>
                <a:cubicBezTo>
                  <a:pt x="80670" y="360364"/>
                  <a:pt x="0" y="279694"/>
                  <a:pt x="0" y="180182"/>
                </a:cubicBezTo>
                <a:close/>
                <a:moveTo>
                  <a:pt x="90091" y="180182"/>
                </a:moveTo>
                <a:cubicBezTo>
                  <a:pt x="90091" y="229938"/>
                  <a:pt x="130426" y="270273"/>
                  <a:pt x="180182" y="270273"/>
                </a:cubicBezTo>
                <a:cubicBezTo>
                  <a:pt x="229938" y="270273"/>
                  <a:pt x="270273" y="229938"/>
                  <a:pt x="270273" y="180182"/>
                </a:cubicBezTo>
                <a:cubicBezTo>
                  <a:pt x="270273" y="130426"/>
                  <a:pt x="229938" y="90091"/>
                  <a:pt x="180182" y="90091"/>
                </a:cubicBezTo>
                <a:cubicBezTo>
                  <a:pt x="130426" y="90091"/>
                  <a:pt x="90091" y="130426"/>
                  <a:pt x="90091" y="180182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同心圆 5"/>
          <p:cNvSpPr/>
          <p:nvPr/>
        </p:nvSpPr>
        <p:spPr>
          <a:xfrm>
            <a:off x="2195640" y="328464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同心圆 6"/>
          <p:cNvSpPr/>
          <p:nvPr/>
        </p:nvSpPr>
        <p:spPr>
          <a:xfrm>
            <a:off x="2195640" y="4221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7"/>
          <p:cNvSpPr/>
          <p:nvPr/>
        </p:nvSpPr>
        <p:spPr>
          <a:xfrm>
            <a:off x="3276720" y="4941720"/>
            <a:ext cx="52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老骥伏枥，志在千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烈士暮年，壮心不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想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7" descr=""/>
          <p:cNvPicPr/>
          <p:nvPr/>
        </p:nvPicPr>
        <p:blipFill>
          <a:blip r:embed="rId1"/>
          <a:stretch/>
        </p:blipFill>
        <p:spPr>
          <a:xfrm rot="20739600">
            <a:off x="1861920" y="1503360"/>
            <a:ext cx="3130560" cy="234936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9" descr=""/>
          <p:cNvPicPr/>
          <p:nvPr/>
        </p:nvPicPr>
        <p:blipFill>
          <a:blip r:embed="rId2"/>
          <a:stretch/>
        </p:blipFill>
        <p:spPr>
          <a:xfrm rot="1819800">
            <a:off x="5627160" y="1481040"/>
            <a:ext cx="3089520" cy="23130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10" descr=""/>
          <p:cNvPicPr/>
          <p:nvPr/>
        </p:nvPicPr>
        <p:blipFill>
          <a:blip r:embed="rId3"/>
          <a:stretch/>
        </p:blipFill>
        <p:spPr>
          <a:xfrm rot="1199400">
            <a:off x="2298600" y="4257720"/>
            <a:ext cx="2746440" cy="219708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11" descr=""/>
          <p:cNvPicPr/>
          <p:nvPr/>
        </p:nvPicPr>
        <p:blipFill>
          <a:blip r:embed="rId4"/>
          <a:stretch/>
        </p:blipFill>
        <p:spPr>
          <a:xfrm rot="19762800">
            <a:off x="5681160" y="429552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8" descr=""/>
          <p:cNvPicPr/>
          <p:nvPr/>
        </p:nvPicPr>
        <p:blipFill>
          <a:blip r:embed="rId5"/>
          <a:stretch/>
        </p:blipFill>
        <p:spPr>
          <a:xfrm>
            <a:off x="3887640" y="2565360"/>
            <a:ext cx="2880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爱阅读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"/>
          <p:cNvSpPr/>
          <p:nvPr/>
        </p:nvSpPr>
        <p:spPr>
          <a:xfrm>
            <a:off x="1908000" y="86040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鲁班为什么会发明锯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3"/>
          <p:cNvSpPr/>
          <p:nvPr/>
        </p:nvSpPr>
        <p:spPr>
          <a:xfrm>
            <a:off x="3708360" y="1916280"/>
            <a:ext cx="2948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善于观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勤于思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乐于动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5"/>
          <p:cNvSpPr/>
          <p:nvPr/>
        </p:nvSpPr>
        <p:spPr>
          <a:xfrm>
            <a:off x="1908000" y="213372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       jiù          mó  tuō         f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  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3" descr=""/>
          <p:cNvPicPr/>
          <p:nvPr/>
        </p:nvPicPr>
        <p:blipFill>
          <a:blip r:embed="rId1"/>
          <a:stretch/>
        </p:blipFill>
        <p:spPr>
          <a:xfrm>
            <a:off x="2050920" y="831960"/>
            <a:ext cx="1657440" cy="13176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698840" cy="13129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" descr=""/>
          <p:cNvPicPr/>
          <p:nvPr/>
        </p:nvPicPr>
        <p:blipFill>
          <a:blip r:embed="rId3"/>
          <a:stretch/>
        </p:blipFill>
        <p:spPr>
          <a:xfrm>
            <a:off x="5364000" y="836640"/>
            <a:ext cx="1586160" cy="13129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6" descr=""/>
          <p:cNvPicPr/>
          <p:nvPr/>
        </p:nvPicPr>
        <p:blipFill>
          <a:blip r:embed="rId4"/>
          <a:stretch/>
        </p:blipFill>
        <p:spPr>
          <a:xfrm>
            <a:off x="6950160" y="836640"/>
            <a:ext cx="1793880" cy="13129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7" descr=""/>
          <p:cNvPicPr/>
          <p:nvPr/>
        </p:nvPicPr>
        <p:blipFill>
          <a:blip r:embed="rId5"/>
          <a:stretch/>
        </p:blipFill>
        <p:spPr>
          <a:xfrm>
            <a:off x="2050920" y="3933720"/>
            <a:ext cx="1513080" cy="10796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8" descr=""/>
          <p:cNvPicPr/>
          <p:nvPr/>
        </p:nvPicPr>
        <p:blipFill>
          <a:blip r:embed="rId6"/>
          <a:stretch/>
        </p:blipFill>
        <p:spPr>
          <a:xfrm>
            <a:off x="3564000" y="3933720"/>
            <a:ext cx="1439640" cy="10796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9" descr=""/>
          <p:cNvPicPr/>
          <p:nvPr/>
        </p:nvPicPr>
        <p:blipFill>
          <a:blip r:embed="rId7"/>
          <a:stretch/>
        </p:blipFill>
        <p:spPr>
          <a:xfrm>
            <a:off x="4932360" y="3933720"/>
            <a:ext cx="1511280" cy="10796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0" descr=""/>
          <p:cNvPicPr/>
          <p:nvPr/>
        </p:nvPicPr>
        <p:blipFill>
          <a:blip r:embed="rId8"/>
          <a:stretch/>
        </p:blipFill>
        <p:spPr>
          <a:xfrm>
            <a:off x="6443640" y="3897360"/>
            <a:ext cx="2300400" cy="1116000"/>
          </a:xfrm>
          <a:prstGeom prst="rect">
            <a:avLst/>
          </a:prstGeom>
          <a:ln w="0">
            <a:noFill/>
          </a:ln>
        </p:spPr>
      </p:pic>
      <p:sp>
        <p:nvSpPr>
          <p:cNvPr id="66" name="矩形 5"/>
          <p:cNvSpPr/>
          <p:nvPr/>
        </p:nvSpPr>
        <p:spPr>
          <a:xfrm>
            <a:off x="1908000" y="495468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yú       huò     yóu lún   kē    k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 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爱阅读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1908000" y="86040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大胆说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2411280" y="1916280"/>
            <a:ext cx="61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课文中的这些伟人给你留下了怎样的印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4"/>
          <p:cNvSpPr/>
          <p:nvPr/>
        </p:nvSpPr>
        <p:spPr>
          <a:xfrm>
            <a:off x="2411280" y="3689280"/>
            <a:ext cx="61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你觉得他们为什么会取得成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爱阅读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1908000" y="86040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课外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"/>
          <p:cNvSpPr/>
          <p:nvPr/>
        </p:nvSpPr>
        <p:spPr>
          <a:xfrm>
            <a:off x="2195640" y="2492280"/>
            <a:ext cx="64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课后请大家再去找一些名人的故事来阅读，还可以和同学一起讲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2384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徐妙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9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5"/>
          <p:cNvSpPr/>
          <p:nvPr/>
        </p:nvSpPr>
        <p:spPr>
          <a:xfrm>
            <a:off x="1908000" y="213372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       jiù          mó  tuō         f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  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1908000" y="495468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yú       huò     yóu lún   kē    k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 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5"/>
          <p:cNvSpPr/>
          <p:nvPr/>
        </p:nvSpPr>
        <p:spPr>
          <a:xfrm>
            <a:off x="2987640" y="150660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916360" y="375444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3006720" y="1628640"/>
            <a:ext cx="531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轿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救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摩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防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渔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货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油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轮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科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3365640" y="1052640"/>
            <a:ext cx="430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板凳，连一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当做汽车开出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邮政车，穿绿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信件包裹装肚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救护车，穿白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病人伤员抱怀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消防车，穿红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喷水灭火跑得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"/>
          <p:cNvSpPr/>
          <p:nvPr/>
        </p:nvSpPr>
        <p:spPr>
          <a:xfrm>
            <a:off x="2411280" y="981000"/>
            <a:ext cx="36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小轿车排成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各种颜色真好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追我赶跑得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就像汽车在比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3851280" y="27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公共汽车可真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椅子整齐排排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走过一站又一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上他下都是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5292720" y="45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货车长又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各种货物满满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城市乡村到处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建设祖国立功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5292720" y="141444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2195640" y="501480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2411280" y="981000"/>
            <a:ext cx="36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是一辆洒水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要开去洗马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洗马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啦啦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3851280" y="27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是一辆消防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要开去灭火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灭火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快快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5292720" y="45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是一辆救护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要开去救病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救病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快快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5803920" y="119700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我是一辆特别的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556000" y="465300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我是一辆特别的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Windows 用户</cp:lastModifiedBy>
  <dcterms:modified xsi:type="dcterms:W3CDTF">2017-08-10T06:46:11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